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8088-1BAF-48ED-A984-E08E712E5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7239-EA58-4D81-99A3-0A71BDF8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1DEA-9169-4208-8FAB-2E137C1B7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2DB5-737A-4B71-A819-4954A28EA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87DD-A1F1-4755-AA08-0BC9C31C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02F9-96CC-47A4-9892-089F58F2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097E-6C96-4541-9BA6-75568499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FB8E-E82B-44D7-B80F-F955A70B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DDF6-AEAD-49BF-9E0D-222DBB2B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F99F-8006-4178-A0CA-E7FC1402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6532-22E9-4F86-9B7B-35D6747E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04D1-311B-4F27-BA34-B559DB03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512F-9697-475B-96D7-021CF9135B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50920" y="260280"/>
            <a:ext cx="864216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азвание проекта фундаментальной Н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уководитель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50920" y="2637000"/>
            <a:ext cx="86421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50920" y="4076640"/>
            <a:ext cx="8642160" cy="21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задачи, на решение которых направлен проек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250920" y="2478240"/>
          <a:ext cx="8642160" cy="2895480"/>
        </p:xfrm>
        <a:graphic>
          <a:graphicData uri="http://schemas.openxmlformats.org/drawingml/2006/table">
            <a:tbl>
              <a:tblPr/>
              <a:tblGrid>
                <a:gridCol w="460440"/>
                <a:gridCol w="2854080"/>
                <a:gridCol w="1096920"/>
                <a:gridCol w="765360"/>
                <a:gridCol w="2741400"/>
                <a:gridCol w="7239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чная степ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ое з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ь и место основной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 Box 256"/>
          <p:cNvSpPr/>
          <p:nvPr/>
        </p:nvSpPr>
        <p:spPr>
          <a:xfrm>
            <a:off x="184320" y="1496880"/>
            <a:ext cx="870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Исполнители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научные и научно-педагогические работники, молодые ученые, аспиранты, студент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57"/>
          <p:cNvSpPr/>
          <p:nvPr/>
        </p:nvSpPr>
        <p:spPr>
          <a:xfrm>
            <a:off x="3401640" y="260280"/>
            <a:ext cx="25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Стоимость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________ тыс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Text Box 256" descr=""/>
          <p:cNvPicPr/>
          <p:nvPr/>
        </p:nvPicPr>
        <p:blipFill>
          <a:blip r:embed="rId1"/>
          <a:stretch/>
        </p:blipFill>
        <p:spPr>
          <a:xfrm>
            <a:off x="182520" y="304920"/>
            <a:ext cx="8759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187280" y="-27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Наработки авторов по тематике проекта (за 2012-2016 года) и ожидаемые 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08000" y="565200"/>
          <a:ext cx="8856720" cy="6424560"/>
        </p:xfrm>
        <a:graphic>
          <a:graphicData uri="http://schemas.openxmlformats.org/drawingml/2006/table">
            <a:tbl>
              <a:tblPr/>
              <a:tblGrid>
                <a:gridCol w="6480000"/>
                <a:gridCol w="1224000"/>
                <a:gridCol w="115272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або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 2012-2016г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жидаемое коли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убликации исполнителей по тематике проекта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 Статьи в журналах, входящих в наукометрические базы данных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 Публикации в материалах конференций, входящих в наукометрические базы данных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 Статьи в журналах, включенных в перечень научных специализированных изданий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 Монографии, опубликованные по решению Ученого совета ДонНУ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. Учебники, учебные пособия с грифом МОН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. Учебные пособия без грифа МОН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. Словари, справочники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8. Получено/будет подано заявок на получение авторских свидетельств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готовка научных кадров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 Защищено исполнителями проекта либо под руководством исполнителей проекта докторских диссертаций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 Запланировано к защите за период выполнения проекта докторских диссертаций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 Защищено исполнителями проекта либо под руководством исполнителей проекта кандидатских диссертаций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 Запланировано к защите за период выполнения проекта кандидатских диссертаций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Verdana"/>
              </a:rPr>
              <a:t>Ожидаемое использование получаемых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08000" y="1484280"/>
          <a:ext cx="8964720" cy="4873680"/>
        </p:xfrm>
        <a:graphic>
          <a:graphicData uri="http://schemas.openxmlformats.org/drawingml/2006/table">
            <a:tbl>
              <a:tblPr/>
              <a:tblGrid>
                <a:gridCol w="8964720"/>
              </a:tblGrid>
              <a:tr h="101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дрение в учебный процесс Дон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казать, какие курсы/спецкурсы будут модернизированы или разработан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1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дрение учебный процесс других образовательных организаций высшего профессионально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казать образовательные организации высшего профессионального образования, в которых планируется внедрение, и курсы/спецкурсы, которые будут модернизированы или разработан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енциальные заказчики/потребители получаемых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казать предприятия/учреждения, на которых планируется провести апробацию результат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12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 заключения лицензионных договоров на оказание услуг научно-технического характ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казать предприятия/учреждения, с которыми планируется заключение лицензионных договоров или договоров на оказание услуг и ориентировочные суммы привлеченных внебюджетных средст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755640" y="43920"/>
            <a:ext cx="761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99"/>
                </a:solidFill>
                <a:latin typeface="Verdana"/>
              </a:rPr>
              <a:t>НАЛИЧИЕ МАТЕРИАЛЬНО-ТЕХНИЧЕСКОЙ БАЗЫ ДЛЯ ВЫПОЛНЕНИЯ ПРОЕКТА</a:t>
            </a: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79280" y="765000"/>
          <a:ext cx="8759880" cy="4383360"/>
        </p:xfrm>
        <a:graphic>
          <a:graphicData uri="http://schemas.openxmlformats.org/drawingml/2006/table">
            <a:tbl>
              <a:tblPr/>
              <a:tblGrid>
                <a:gridCol w="2919600"/>
                <a:gridCol w="2921040"/>
                <a:gridCol w="2919240"/>
              </a:tblGrid>
              <a:tr h="872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звание прибора, оборуд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разд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кафедра ДонНУ или другое учрежде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едения о госповер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60"/>
          <p:cNvSpPr/>
          <p:nvPr/>
        </p:nvSpPr>
        <p:spPr>
          <a:xfrm>
            <a:off x="250920" y="5373720"/>
            <a:ext cx="8642160" cy="95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едения о доступе к мировым информационным ресурсам по тематике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5T02:07:07Z</dcterms:created>
  <dc:creator>User</dc:creator>
  <dc:description/>
  <dc:language>en-US</dc:language>
  <cp:lastModifiedBy>Кишкань Лилия Олеговна</cp:lastModifiedBy>
  <dcterms:modified xsi:type="dcterms:W3CDTF">2016-09-20T13:09:15Z</dcterms:modified>
  <cp:revision>26</cp:revision>
  <dc:subject/>
  <dc:title>Слайд 1</dc:title>
</cp:coreProperties>
</file>