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858-05AB-4812-B81D-C898831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A6B-2F79-400A-A9D1-3443E104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F6-94CD-4146-AE16-549DF5F8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9B3-90C6-4541-8319-18D1BA1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EA3-60CB-44A4-8C93-DAD6B9D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296-ADD8-4408-97BF-38C0401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27A-30DC-4949-A2F5-1F9BA33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FF4-6B3E-4FDF-9A68-CE70F553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CB4-EF3D-4F0D-B667-D24C8660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2D4-701B-421C-9C02-A2BB248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9B4-CB54-4157-BD63-24BF437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1AB-58DB-4ED8-A11D-93F6FC7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BBF8-454C-47EA-AD03-D6AD518BB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256" descr=""/>
          <p:cNvPicPr/>
          <p:nvPr/>
        </p:nvPicPr>
        <p:blipFill>
          <a:blip r:embed="rId1"/>
          <a:stretch/>
        </p:blipFill>
        <p:spPr>
          <a:xfrm>
            <a:off x="182520" y="304920"/>
            <a:ext cx="875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42456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09:15Z</dcterms:modified>
  <cp:revision>26</cp:revision>
  <dc:subject/>
  <dc:title>Слайд 1</dc:title>
</cp:coreProperties>
</file>