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BBD-4E7D-4B08-A465-ACA11845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FED-7806-4082-9DF9-FE028580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828-0523-4EB7-B63A-666FD915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87C-ADF9-4854-A515-015904D2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14-1B7D-421D-9178-95B0F77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E42-0568-4AA9-A044-7DB5BBBE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ACF-64C3-429E-ABC4-8FAD3996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65D-F3C3-406C-93FC-B35F645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3E2-B6E0-4BEE-9E7A-7340A0A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35E-2815-4DEE-941F-49E5D00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EA2-E694-4A51-A864-49F4BA3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817-4205-4579-A1CA-C318818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6CA-18FF-4131-ACAB-8B7B3B010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11:24Z</dcterms:modified>
  <cp:revision>20</cp:revision>
  <dc:subject/>
  <dc:title>Слайд 1</dc:title>
</cp:coreProperties>
</file>