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8A9-B3F8-4318-AE41-206962BD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AF5-7E8A-455F-9E20-F83E28AE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B06-EE71-414A-A852-54C969E1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821-5D32-48D9-A995-12419630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4DB-8D63-41D9-902A-5ECD2A93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72D-6D5E-4F1C-9EB4-7607CD5B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834-CBE0-4635-8621-318CCF5B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CBC-CEF8-4A42-A4B8-53421181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F04-F1DD-4A53-A9C9-B8F9F78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C80-2B17-47A9-B8AE-AC9CA9BC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549-DE87-4BB2-A987-95B4879F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C45-3196-491E-90FC-26F4029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51CE-D7AF-46BA-93B1-EF699E223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50920" y="227016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50920" y="39830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250920" y="11592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приклад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20356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7"/>
          <p:cNvSpPr/>
          <p:nvPr/>
        </p:nvSpPr>
        <p:spPr>
          <a:xfrm>
            <a:off x="3544560" y="40464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6"/>
          <p:cNvSpPr/>
          <p:nvPr/>
        </p:nvSpPr>
        <p:spPr>
          <a:xfrm>
            <a:off x="184320" y="155736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84320" y="333360"/>
            <a:ext cx="870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(вещества и материалы, техника, технологии, методики, сорта растений, породы животных, нормативы и стандарты, техническая документация, программно-технологическая документация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1280" y="1047600"/>
          <a:ext cx="8964720" cy="5334120"/>
        </p:xfrm>
        <a:graphic>
          <a:graphicData uri="http://schemas.openxmlformats.org/drawingml/2006/table">
            <a:tbl>
              <a:tblPr/>
              <a:tblGrid>
                <a:gridCol w="6099480"/>
                <a:gridCol w="1606320"/>
                <a:gridCol w="1258920"/>
              </a:tblGrid>
              <a:tr h="4590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2-2016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ловари, справоч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7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научных кадр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планировано к защите за период выполнения проекта кандидатских 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"/>
          <p:cNvSpPr/>
          <p:nvPr/>
        </p:nvSpPr>
        <p:spPr>
          <a:xfrm>
            <a:off x="1187280" y="50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2-2016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830160"/>
          <a:ext cx="8964720" cy="4891320"/>
        </p:xfrm>
        <a:graphic>
          <a:graphicData uri="http://schemas.openxmlformats.org/drawingml/2006/table">
            <a:tbl>
              <a:tblPr/>
              <a:tblGrid>
                <a:gridCol w="6099120"/>
                <a:gridCol w="1606680"/>
                <a:gridCol w="1258920"/>
              </a:tblGrid>
              <a:tr h="457200"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2-2016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хранные документы на объекты права интеллектуальной собственности, созданные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о патентов/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хранных документов на объекты права интеллектуальной собственности, созданной по тематик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удет получено патентов/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рских свидетель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будет подано заявок на получение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ентов/авторских свидетельст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ъем средств, полученных от внедрения результатов предыдущих НИР, тыс. грн. (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й объем средств от внедрения результатов НИР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ффективность использования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сумма доходов от договоров/сумма бюджетного финансир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оличество договоров, заключенных по результатам выполнения предыдущих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 до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"/>
          <p:cNvSpPr/>
          <p:nvPr/>
        </p:nvSpPr>
        <p:spPr>
          <a:xfrm>
            <a:off x="1187280" y="44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2-2016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1341360"/>
          <a:ext cx="8964720" cy="49402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 результатов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и учреждения, с которыми будут заключены договора для реализации технологий и разработок, созданных в результате выполнения прикладной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сумма (тыс.руб.) лицензионных договоров или договоров на оказание услу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приборов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Кишкань Лилия Олеговна</cp:lastModifiedBy>
  <dcterms:modified xsi:type="dcterms:W3CDTF">2016-09-20T13:11:24Z</dcterms:modified>
  <cp:revision>20</cp:revision>
  <dc:subject/>
  <dc:title>Слайд 1</dc:title>
</cp:coreProperties>
</file>