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131-543E-423A-A0CD-1FCB7E90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404-EF7A-4BFA-9F2C-BC6CA77A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FA3-2CA9-47FB-BCA6-A52E877D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9CA-2B0F-4CD3-9BCE-C56474B2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A80-C102-46C9-85B4-2D93EE7B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E63-D04C-48FA-BA54-6CC906E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32F-E619-48B9-B6CE-EEBBE87B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0FA-1B45-4EE0-821F-6059735D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859-A074-4913-9A78-779086D0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4F6-FA48-4385-87D3-64E6647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30F-8BF0-4E20-ACC6-09A281D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38D-FB2A-4393-BD34-FDA8B2C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BF0-5DF4-4479-9A19-686D68B95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11:24Z</dcterms:modified>
  <cp:revision>20</cp:revision>
  <dc:subject/>
  <dc:title>Слайд 1</dc:title>
</cp:coreProperties>
</file>