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4A2F-5099-47ED-A808-1A530633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465-C148-4481-9C6E-89900013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978-2401-4F3F-BAA8-663F3028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8604-0DFB-408A-8836-2C0ED912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6CE-B3F5-435D-8C26-E8077F52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044B-93D7-4AFC-B900-E96A6F5C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2462-F28D-4EEC-A045-979579A9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B11-F510-4D5D-939A-7EADD4E5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7487-3E68-42C3-BC4A-E9B959F0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D63-40D6-4B7A-8DD5-798E6F72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471-FAC2-4FEB-89FD-87A71716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0A6-F175-4710-9E21-17F5F89F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B21D-83CB-4531-8E97-B564F42035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50920" y="260280"/>
            <a:ext cx="86421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звание проекта фундаментальной Н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уководит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50920" y="2637000"/>
            <a:ext cx="8642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50920" y="4076640"/>
            <a:ext cx="864216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задачи, на решение которых направлен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0920" y="2478240"/>
          <a:ext cx="8642160" cy="2895480"/>
        </p:xfrm>
        <a:graphic>
          <a:graphicData uri="http://schemas.openxmlformats.org/drawingml/2006/table">
            <a:tbl>
              <a:tblPr/>
              <a:tblGrid>
                <a:gridCol w="460440"/>
                <a:gridCol w="2854080"/>
                <a:gridCol w="1096920"/>
                <a:gridCol w="765360"/>
                <a:gridCol w="2741400"/>
                <a:gridCol w="723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степ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ое 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и место основ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256"/>
          <p:cNvSpPr/>
          <p:nvPr/>
        </p:nvSpPr>
        <p:spPr>
          <a:xfrm>
            <a:off x="184320" y="1496880"/>
            <a:ext cx="87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Исполнител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аучные и научно-педагогические работники, молодые ученые, аспиранты, студ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57"/>
          <p:cNvSpPr/>
          <p:nvPr/>
        </p:nvSpPr>
        <p:spPr>
          <a:xfrm>
            <a:off x="3401640" y="26028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Стоим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_______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56"/>
          <p:cNvSpPr/>
          <p:nvPr/>
        </p:nvSpPr>
        <p:spPr>
          <a:xfrm>
            <a:off x="193680" y="333360"/>
            <a:ext cx="87091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Ожидаемая научно-техническая прод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овые знания, законы, концепции, гипотезы, теории, методы, выводы, технологии, нормативно-техническая документация, правовые документы, прогнозы развития науки и техники, открытие путей применения новых явлений и закономерностей, учебные программы, методические рекомендации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187280" y="-27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(за 2015-2019 года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8000" y="565200"/>
          <a:ext cx="8856720" cy="6203880"/>
        </p:xfrm>
        <a:graphic>
          <a:graphicData uri="http://schemas.openxmlformats.org/drawingml/2006/table">
            <a:tbl>
              <a:tblPr/>
              <a:tblGrid>
                <a:gridCol w="6480000"/>
                <a:gridCol w="1224000"/>
                <a:gridCol w="1152720"/>
              </a:tblGrid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5-2019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2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убликации исполнителей по тематике проекта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Статьи в журналах, входящих в наукометрические базы данных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Публикации в материалах конференций, входящих в наукометрические базы данных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Статьи в журналах, включенных в перечень научных специализированных издан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Монографии, опубликованные по решению Ученого совета ДонНУ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 Учебники, учебные пособия с грифом МОН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 Учебные пособия без грифа МОН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 Словари, справочники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 Получено/будет подано заявок на получение авторских свидетельст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готовка научных кадров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Защищено исполнителями проекта либо под руководством исполнителей проекта доктор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Запланировано к защите за период выполнения проекта доктор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Защищено исполнителями проекта либо под руководством исполнителей проекта кандидат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Запланировано к защите за период выполнения проекта кандидатских диссертац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Ожидаемое использование получа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08000" y="1484280"/>
          <a:ext cx="8964720" cy="487368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101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в учебный процесс Дон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, какие курсы/спецкурсы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учебный процесс других образовательных организаций высшего 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образовательные организации высшего профессионального образования, в которых планируется внедрение, и курсы/спецкурсы, которые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ые заказчики/потребители получаемых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на которых планируется провести апробацию результат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заключения лицензионных договоров на оказание услуг научно-технического характ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с которыми планируется заключение лицензионных договоров или договоров на оказание услуг и ориентировочные суммы привлеченных внебюджетных средст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755640" y="43920"/>
            <a:ext cx="76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Verdana"/>
              </a:rPr>
              <a:t>НАЛИЧИЕ МАТЕРИАЛЬНО-ТЕХНИЧЕСКОЙ БАЗЫ ДЛЯ ВЫПОЛНЕНИЯ ПРОЕКТА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9280" y="765000"/>
          <a:ext cx="8759880" cy="4383360"/>
        </p:xfrm>
        <a:graphic>
          <a:graphicData uri="http://schemas.openxmlformats.org/drawingml/2006/table">
            <a:tbl>
              <a:tblPr/>
              <a:tblGrid>
                <a:gridCol w="2919600"/>
                <a:gridCol w="2921040"/>
                <a:gridCol w="2919240"/>
              </a:tblGrid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звание прибора,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кафедра ДонНУ или другое учрежд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дения о госповер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60"/>
          <p:cNvSpPr/>
          <p:nvPr/>
        </p:nvSpPr>
        <p:spPr>
          <a:xfrm>
            <a:off x="250920" y="5373720"/>
            <a:ext cx="8642160" cy="9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едения о доступе к мировым информационным ресурсам по тематике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02:07:07Z</dcterms:created>
  <dc:creator>User</dc:creator>
  <dc:description/>
  <dc:language>en-US</dc:language>
  <cp:lastModifiedBy>Собко Александр Юрьевич</cp:lastModifiedBy>
  <dcterms:modified xsi:type="dcterms:W3CDTF">2019-10-15T06:21:05Z</dcterms:modified>
  <cp:revision>28</cp:revision>
  <dc:subject/>
  <dc:title>Слайд 1</dc:title>
</cp:coreProperties>
</file>