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CD7D-F6E4-40DA-AF2D-0CBD22B9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1520-568D-4129-956F-56E50996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9C6D-4974-45FD-AB4E-6787BF9C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91DF-65D9-430F-88BC-7ED6CF4E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1842-5AD7-4F0F-A4D7-B1DE8C12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5A0B-2C9C-4D27-9299-B5449A8C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E3B6-E5F8-46BE-A181-94949F84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06D4-2040-47D1-8F86-0D7B775D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B9E1-959C-457E-97E5-623CCFF5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1871-5CD7-4D6C-AAA9-B3C11FCB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CC72-731C-4E98-927E-6751CC5B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2FDB-8933-4677-A161-10575BE1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F3D1-6CC9-4CF8-AA09-DB5A7039CE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50920" y="260280"/>
            <a:ext cx="864216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звание проекта фундаментальной Н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уководитель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50920" y="2637000"/>
            <a:ext cx="8642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50920" y="4076640"/>
            <a:ext cx="864216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задачи, на решение которых направлен проек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50920" y="2478240"/>
          <a:ext cx="8642160" cy="2895480"/>
        </p:xfrm>
        <a:graphic>
          <a:graphicData uri="http://schemas.openxmlformats.org/drawingml/2006/table">
            <a:tbl>
              <a:tblPr/>
              <a:tblGrid>
                <a:gridCol w="460440"/>
                <a:gridCol w="2854080"/>
                <a:gridCol w="1096920"/>
                <a:gridCol w="765360"/>
                <a:gridCol w="2741400"/>
                <a:gridCol w="7239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ая степ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ое з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 и место основ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256"/>
          <p:cNvSpPr/>
          <p:nvPr/>
        </p:nvSpPr>
        <p:spPr>
          <a:xfrm>
            <a:off x="184320" y="1496880"/>
            <a:ext cx="87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Исполнител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научные и научно-педагогические работники, молодые ученые, аспиранты, студен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57"/>
          <p:cNvSpPr/>
          <p:nvPr/>
        </p:nvSpPr>
        <p:spPr>
          <a:xfrm>
            <a:off x="3401640" y="26028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Стоимость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________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56"/>
          <p:cNvSpPr/>
          <p:nvPr/>
        </p:nvSpPr>
        <p:spPr>
          <a:xfrm>
            <a:off x="193680" y="333360"/>
            <a:ext cx="87091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Ожидаемая научно-техническая прод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новые знания, законы, концепции, гипотезы, теории, методы, выводы, технологии, нормативно-техническая документация, правовые документы, прогнозы развития науки и техники, открытие путей применения новых явлений и закономерностей, учебные программы, методические рекомендации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187280" y="-27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Наработки авторов по тематике проекта (за 2015-2019 года) и 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8000" y="565200"/>
          <a:ext cx="8856720" cy="6203880"/>
        </p:xfrm>
        <a:graphic>
          <a:graphicData uri="http://schemas.openxmlformats.org/drawingml/2006/table">
            <a:tbl>
              <a:tblPr/>
              <a:tblGrid>
                <a:gridCol w="6480000"/>
                <a:gridCol w="1224000"/>
                <a:gridCol w="1152720"/>
              </a:tblGrid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2015-2019г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ое 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2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убликации исполнителей по тематике проекта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Статьи в журналах, входящих в наукометрические базы данных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Публикации в материалах конференций, входящих в наукометрические базы данных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Статьи в журналах, включенных в перечень научных специализированных издан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 Монографии, опубликованные по решению Ученого совета ДонНУ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 Учебники, учебные пособия с грифом МОН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 Учебные пособия без грифа МОН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. Словари, справочники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. Получено/будет подано заявок на получение авторских свидетельств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4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готовка научных кадров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Защищено исполнителями проекта либо под руководством исполнителей проекта докторских диссертац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Запланировано к защите за период выполнения проекта докторских диссертац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Защищено исполнителями проекта либо под руководством исполнителей проекта кандидатских диссертац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 Запланировано к защите за период выполнения проекта кандидатских диссертаций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Verdana"/>
              </a:rPr>
              <a:t>Ожидаемое использование получаем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08000" y="1484280"/>
          <a:ext cx="8964720" cy="487368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101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в учебный процесс Дон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, какие курсы/спецкурсы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учебный процесс других образовательных организаций высшего профессион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образовательные организации высшего профессионального образования, в которых планируется внедрение, и курсы/спецкурсы, которые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ьные заказчики/потребители получаемых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предприятия/учреждения, на которых планируется провести апробацию результат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заключения лицензионных договоров на оказание услуг научно-технического характ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предприятия/учреждения, с которыми планируется заключение лицензионных договоров или договоров на оказание услуг и ориентировочные суммы привлеченных внебюджетных средст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755640" y="43920"/>
            <a:ext cx="76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Verdana"/>
              </a:rPr>
              <a:t>НАЛИЧИЕ МАТЕРИАЛЬНО-ТЕХНИЧЕСКОЙ БАЗЫ ДЛЯ ВЫПОЛНЕНИЯ ПРОЕКТА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79280" y="765000"/>
          <a:ext cx="8759880" cy="4383360"/>
        </p:xfrm>
        <a:graphic>
          <a:graphicData uri="http://schemas.openxmlformats.org/drawingml/2006/table">
            <a:tbl>
              <a:tblPr/>
              <a:tblGrid>
                <a:gridCol w="2919600"/>
                <a:gridCol w="2921040"/>
                <a:gridCol w="2919240"/>
              </a:tblGrid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звание прибора, обору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раз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кафедра ДонНУ или другое учрежде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едения о госповер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60"/>
          <p:cNvSpPr/>
          <p:nvPr/>
        </p:nvSpPr>
        <p:spPr>
          <a:xfrm>
            <a:off x="250920" y="5373720"/>
            <a:ext cx="8642160" cy="95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едения о доступе к мировым информационным ресурсам по тематике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5T02:07:07Z</dcterms:created>
  <dc:creator>User</dc:creator>
  <dc:description/>
  <dc:language>en-US</dc:language>
  <cp:lastModifiedBy>Собко Александр Юрьевич</cp:lastModifiedBy>
  <dcterms:modified xsi:type="dcterms:W3CDTF">2019-10-15T06:21:05Z</dcterms:modified>
  <cp:revision>28</cp:revision>
  <dc:subject/>
  <dc:title>Слайд 1</dc:title>
</cp:coreProperties>
</file>