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9BF-C4CB-4BF9-9876-B43831FA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0A2-E6DA-4F4C-B964-8B6B4F39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CC9-20D6-4277-B84C-037BB847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9F9-97FF-4F1A-ADA9-A4D7CC87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7D0-55B7-4AAD-9091-731B1DBB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637-92FF-42B2-A97F-B04290E7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51A-84D0-40C6-86C4-206EB487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450-E532-4A73-B961-9742134C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6C8-ECD3-423F-98C2-C49F54C1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FCA-193C-4465-8250-D92F012C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183-BD6D-41ED-B702-59A312C0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89B-03E4-4CF6-8203-EE3E30D0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726C-7595-4601-91FC-81FD407F3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260280"/>
            <a:ext cx="86421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вание проекта фундаментальной Н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уководит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2637000"/>
            <a:ext cx="8642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0920" y="4076640"/>
            <a:ext cx="8642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задачи, на решение которых направлен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2478240"/>
          <a:ext cx="8642160" cy="2895480"/>
        </p:xfrm>
        <a:graphic>
          <a:graphicData uri="http://schemas.openxmlformats.org/drawingml/2006/table">
            <a:tbl>
              <a:tblPr/>
              <a:tblGrid>
                <a:gridCol w="460440"/>
                <a:gridCol w="2854080"/>
                <a:gridCol w="1096920"/>
                <a:gridCol w="765360"/>
                <a:gridCol w="2741400"/>
                <a:gridCol w="723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степ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и место основ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256"/>
          <p:cNvSpPr/>
          <p:nvPr/>
        </p:nvSpPr>
        <p:spPr>
          <a:xfrm>
            <a:off x="184320" y="1496880"/>
            <a:ext cx="87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Исполнител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аучные и научно-педагогические работники, молодые ученые, аспиранты, студ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7"/>
          <p:cNvSpPr/>
          <p:nvPr/>
        </p:nvSpPr>
        <p:spPr>
          <a:xfrm>
            <a:off x="3401640" y="26028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Стоим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_______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56"/>
          <p:cNvSpPr/>
          <p:nvPr/>
        </p:nvSpPr>
        <p:spPr>
          <a:xfrm>
            <a:off x="193680" y="333360"/>
            <a:ext cx="87091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Ожидаемая научно-техническ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новые знания, законы, концепции, гипотезы, теории, методы, выводы, технологии, нормативно-техническая документация, правовые документы, прогнозы развития науки и техники, открытие путей применения новых явлений и закономерностей, учебные программы, методические рекомендации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87280" y="-2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Наработки авторов по тематике проекта (за 2015-2019 года) и 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565200"/>
          <a:ext cx="8856720" cy="6203880"/>
        </p:xfrm>
        <a:graphic>
          <a:graphicData uri="http://schemas.openxmlformats.org/drawingml/2006/table">
            <a:tbl>
              <a:tblPr/>
              <a:tblGrid>
                <a:gridCol w="6480000"/>
                <a:gridCol w="1224000"/>
                <a:gridCol w="115272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2015-2019г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2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убликации исполнителей по тематике проект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Статьи в журналах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Публикации в материалах конференций, входящих в наукометрические базы данных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Статьи в журналах, включенных в перечень научных специализированных издан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онографии, опубликованные по решению Ученого совета ДонНУ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Учебники, учебные пособия с грифом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 Учебные пособия без грифа МОН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 Словари, справочники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 Получено/будет подано заявок на получение авторских свидетельст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готовка научных кадров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Защищено исполнителями проекта либо под руководством исполнителей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Запланировано к защите за период выполнения проекта доктор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щищено исполнителями проекта либо под руководством исполнителей проекта кандидатских диссертаций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Запланировано к защите за период выполнения проекта кандидатских диссертац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Ожидаемое использование получа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8000" y="1484280"/>
          <a:ext cx="8964720" cy="48736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в учебный процесс Дон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, какие курсы/спецкурсы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 учебный процесс других образовательных организаций высшего 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образовательные организации высшего профессионального образования, в которых планируется внедрение, и курсы/спецкурсы, которые будут модернизированы или разработа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е заказчики/потребители получаем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на которых планируется провести апробацию результа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заключения лицензионных договоров на оказание услуг научно-техни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казать предприятия/учреждения, с которыми планируется заключение лицензионных договоров или договоров на оказание услуг и ориентировочные суммы привлеченных внебюджетных средст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55640" y="439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Verdana"/>
              </a:rPr>
              <a:t>НАЛИЧИЕ МАТЕРИАЛЬНО-ТЕХНИЧЕСКОЙ БАЗЫ ДЛЯ ВЫПОЛНЕНИЯ ПРОЕКТА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765000"/>
          <a:ext cx="8759880" cy="4383360"/>
        </p:xfrm>
        <a:graphic>
          <a:graphicData uri="http://schemas.openxmlformats.org/drawingml/2006/table">
            <a:tbl>
              <a:tblPr/>
              <a:tblGrid>
                <a:gridCol w="2919600"/>
                <a:gridCol w="2921040"/>
                <a:gridCol w="29192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прибора,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кафедра ДонНУ или другое учрежд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 госповер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60"/>
          <p:cNvSpPr/>
          <p:nvPr/>
        </p:nvSpPr>
        <p:spPr>
          <a:xfrm>
            <a:off x="250920" y="5373720"/>
            <a:ext cx="8642160" cy="95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едения о доступе к мировым информационным ресурсам по тематик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02:07:07Z</dcterms:created>
  <dc:creator>User</dc:creator>
  <dc:description/>
  <dc:language>en-US</dc:language>
  <cp:lastModifiedBy>Собко Александр Юрьевич</cp:lastModifiedBy>
  <dcterms:modified xsi:type="dcterms:W3CDTF">2019-10-15T06:21:05Z</dcterms:modified>
  <cp:revision>28</cp:revision>
  <dc:subject/>
  <dc:title>Слайд 1</dc:title>
</cp:coreProperties>
</file>