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F1A-4BA0-4E8D-8579-45BF4A20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776-8293-4609-BB86-BBB25355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38F-E25C-4743-B4A6-2AB692EC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BDB-6A15-407E-ACAE-277CCCA6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E1D-5377-4240-946A-BD1517F8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411-EA27-4A1D-A2E0-C3A337C1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D18-BA83-4BB9-A9ED-3942E66C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AE7-71A4-4605-A675-630FD9AC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1E2-B862-466C-9EC7-193A5EBE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6D7-69B3-4C9A-BC8E-207A6445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69C-D6B3-4BD7-BB8A-5E6A81A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46D-4EB3-451A-9517-821289A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64CA-E59A-4FF9-BB14-E88D2AB46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50920" y="227016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0920" y="39830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250920" y="11592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приклад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20356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7"/>
          <p:cNvSpPr/>
          <p:nvPr/>
        </p:nvSpPr>
        <p:spPr>
          <a:xfrm>
            <a:off x="3544560" y="40464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6"/>
          <p:cNvSpPr/>
          <p:nvPr/>
        </p:nvSpPr>
        <p:spPr>
          <a:xfrm>
            <a:off x="184320" y="155736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84320" y="333360"/>
            <a:ext cx="870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(вещества и материалы, техника, технологии, методики, сорта растений, породы животных, нормативы и стандарты, техническая документация, программно-технологическая документация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280" y="1047600"/>
          <a:ext cx="8964720" cy="5334120"/>
        </p:xfrm>
        <a:graphic>
          <a:graphicData uri="http://schemas.openxmlformats.org/drawingml/2006/table">
            <a:tbl>
              <a:tblPr/>
              <a:tblGrid>
                <a:gridCol w="6099480"/>
                <a:gridCol w="1606320"/>
                <a:gridCol w="1258920"/>
              </a:tblGrid>
              <a:tr h="4590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5-2019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ловари, справоч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7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научных кадр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планировано к защите за период выполнения проекта кандидатских 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"/>
          <p:cNvSpPr/>
          <p:nvPr/>
        </p:nvSpPr>
        <p:spPr>
          <a:xfrm>
            <a:off x="1187280" y="50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5-2019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830160"/>
          <a:ext cx="8964720" cy="4891320"/>
        </p:xfrm>
        <a:graphic>
          <a:graphicData uri="http://schemas.openxmlformats.org/drawingml/2006/table">
            <a:tbl>
              <a:tblPr/>
              <a:tblGrid>
                <a:gridCol w="6099120"/>
                <a:gridCol w="1606680"/>
                <a:gridCol w="1258920"/>
              </a:tblGrid>
              <a:tr h="4572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5-2019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хранные документы на объекты права интеллектуальной собственности, созданные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о патентов/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хранных документов на объекты права интеллектуальной собственности, созданной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удет получено патентов/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удет подано заявок на получение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ъем средств, полученных от внедрения результатов предыдущих НИР, тыс. грн.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объем средств от внедрения результатов НИР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ффективность использования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сумма доходов от договоров/сумма бюджетного финансир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ичество договоров, заключенных по результатам выполнения предыдущих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 до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"/>
          <p:cNvSpPr/>
          <p:nvPr/>
        </p:nvSpPr>
        <p:spPr>
          <a:xfrm>
            <a:off x="1187280" y="44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5-2019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1341360"/>
          <a:ext cx="8964720" cy="49402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 результатов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и учреждения, с которыми будут заключены договора для реализации технологий и разработок, созданных в результате выполнения прикладной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сумма (тыс.руб.) лицензионных договоров или договоров на оказание услу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приборов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Собко Александр Юрьевич</cp:lastModifiedBy>
  <dcterms:modified xsi:type="dcterms:W3CDTF">2019-10-15T06:19:26Z</dcterms:modified>
  <cp:revision>21</cp:revision>
  <dc:subject/>
  <dc:title>Слайд 1</dc:title>
</cp:coreProperties>
</file>