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100-2210-469D-91D8-805003BF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D21-1BFE-4384-9F6A-EE976DEC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2EF-3088-41B9-B52D-A1974D4E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2D6-C198-4574-993E-2E60F712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7A3-9004-4971-869E-DC444CF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E3A-EC9E-4ED3-B465-1EAA1BB3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FF8-C865-4324-A347-0C26FD4F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07D-E6FB-416F-8AD9-C464F4AE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D0A-97BE-405E-9FBF-294271E9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E47-DB58-4773-9E65-067963AC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85A-A3EF-4D2C-A597-E4A3E370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87A-A2A0-4C9D-8CD5-D2CE313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6267-6619-4BF9-A28B-B74E459D6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50920" y="227016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50920" y="39830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250920" y="11592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приклад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20356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7"/>
          <p:cNvSpPr/>
          <p:nvPr/>
        </p:nvSpPr>
        <p:spPr>
          <a:xfrm>
            <a:off x="3544560" y="40464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6"/>
          <p:cNvSpPr/>
          <p:nvPr/>
        </p:nvSpPr>
        <p:spPr>
          <a:xfrm>
            <a:off x="184320" y="155736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84320" y="333360"/>
            <a:ext cx="8708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(вещества и материалы, техника, технологии, методики, сорта растений, породы животных, нормативы и стандарты, техническая документация, программно-технологическая документация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1280" y="1047600"/>
          <a:ext cx="8964720" cy="5334120"/>
        </p:xfrm>
        <a:graphic>
          <a:graphicData uri="http://schemas.openxmlformats.org/drawingml/2006/table">
            <a:tbl>
              <a:tblPr/>
              <a:tblGrid>
                <a:gridCol w="6099480"/>
                <a:gridCol w="1606320"/>
                <a:gridCol w="1258920"/>
              </a:tblGrid>
              <a:tr h="4590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5-2019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3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ловари, справоч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7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научных кадр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планировано к защите за период выполнения проекта кандидатских 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"/>
          <p:cNvSpPr/>
          <p:nvPr/>
        </p:nvSpPr>
        <p:spPr>
          <a:xfrm>
            <a:off x="1187280" y="507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5-2019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830160"/>
          <a:ext cx="8964720" cy="4891320"/>
        </p:xfrm>
        <a:graphic>
          <a:graphicData uri="http://schemas.openxmlformats.org/drawingml/2006/table">
            <a:tbl>
              <a:tblPr/>
              <a:tblGrid>
                <a:gridCol w="6099120"/>
                <a:gridCol w="1606680"/>
                <a:gridCol w="1258920"/>
              </a:tblGrid>
              <a:tr h="4572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5-2019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хранные документы на объекты права интеллектуальной собственности, созданные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о патентов/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хранных документов на объекты права интеллектуальной собственности, созданной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удет получено патентов/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будет подано заявок на получение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ъем средств, полученных от внедрения результатов предыдущих НИР, тыс. грн.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й объем средств от внедрения результатов НИР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ффективность использования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сумма доходов от договоров/сумма бюджетного финансир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ичество договоров, заключенных по результатам выполнения предыдущих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 догов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"/>
          <p:cNvSpPr/>
          <p:nvPr/>
        </p:nvSpPr>
        <p:spPr>
          <a:xfrm>
            <a:off x="1187280" y="44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5-2019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8000" y="1341360"/>
          <a:ext cx="8964720" cy="49402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 результатов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и учреждения, с которыми будут заключены договора для реализации технологий и разработок, созданных в результате выполнения прикладной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очная сумма (тыс.руб.) лицензионных договоров или договоров на оказание услуг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приборов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Собко Александр Юрьевич</cp:lastModifiedBy>
  <dcterms:modified xsi:type="dcterms:W3CDTF">2019-10-15T06:19:26Z</dcterms:modified>
  <cp:revision>21</cp:revision>
  <dc:subject/>
  <dc:title>Слайд 1</dc:title>
</cp:coreProperties>
</file>