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F4E-10C4-42B0-8CC3-B0F59B9F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9DE-7E12-4302-9CDA-03473ED8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519-E482-46CC-8498-EAFAD493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10B-5287-4511-96E8-455C1A0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BAC-EB96-4A1E-A7FB-DB50C56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981-8CCF-4080-B9A9-5DA852D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D76-B7C0-441D-94D7-374AAF7E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BDD-CA32-444C-AA62-F4F9964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6E4-5453-469D-90C2-4BD7EA83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E17-F5BC-43B2-AD6D-543E3CC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09C-F610-4220-BBF9-B393FE6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BDC-791C-417D-B545-25B01D7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446-78DB-4C7F-A641-85E56D503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19:26Z</dcterms:modified>
  <cp:revision>21</cp:revision>
  <dc:subject/>
  <dc:title>Слайд 1</dc:title>
</cp:coreProperties>
</file>