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DDC-4F6B-43C6-A228-86E8640D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F0B-E72C-4638-A856-14B84A89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26F-80D6-4B5C-9878-DF1F697C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383-0DE3-42C3-B75C-801ADC35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6C4-9934-45C7-B33A-D1515902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3280-7FAE-4CB3-AC7F-C3D29D1B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331-62BB-4B3C-AC45-76D3BC19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9CA-6CD0-4262-8EBE-89D228D4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25C-0D6F-411F-9D36-B3CF7CD6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C41-9C78-4FBD-A6A0-A92461F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6C9-3349-400B-B1D0-B922B69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AA8-54EE-4D9C-9DEA-8964458A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F9D1-DC6C-4709-BDEE-C21919447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54936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фундаменталь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263700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0920" y="40766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427640" y="115920"/>
            <a:ext cx="446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ложение 5 к приказу ДонНУ от_________2021 г. №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247824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 Box 256"/>
          <p:cNvSpPr/>
          <p:nvPr/>
        </p:nvSpPr>
        <p:spPr>
          <a:xfrm>
            <a:off x="184320" y="149688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57"/>
          <p:cNvSpPr/>
          <p:nvPr/>
        </p:nvSpPr>
        <p:spPr>
          <a:xfrm>
            <a:off x="3401640" y="26028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56"/>
          <p:cNvSpPr/>
          <p:nvPr/>
        </p:nvSpPr>
        <p:spPr>
          <a:xfrm>
            <a:off x="193680" y="333360"/>
            <a:ext cx="87091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овые знания, законы, концепции, гипотезы, теории, методы, выводы, технологии, нормативно-техническая документация, правовые документы, прогнозы развития науки и техники, открытие путей применения новых явлений и закономерностей, учебные программы, методические рекомендации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87280" y="-2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(2017-2022 г.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836640"/>
          <a:ext cx="8856720" cy="5897520"/>
        </p:xfrm>
        <a:graphic>
          <a:graphicData uri="http://schemas.openxmlformats.org/drawingml/2006/table">
            <a:tbl>
              <a:tblPr/>
              <a:tblGrid>
                <a:gridCol w="6480360"/>
                <a:gridCol w="1224000"/>
                <a:gridCol w="115236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7-2021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2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 Словари, справочник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 Получено/будет подано заявок на получение авторских свидетельст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7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готовка научных кадров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Запланировано к защите за период выполнения проекта кандидатских диссерта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1484280"/>
          <a:ext cx="8964720" cy="48736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е заказчики/потребители получаем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на которых планируется провести апробацию результа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заключения лицензионных договоров на оказание услуг научно-техни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 и ориентировочные суммы привлеченных внебюджетных средст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прибора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cp:lastPrinted>2020-10-05T11:06:08Z</cp:lastPrinted>
  <dcterms:modified xsi:type="dcterms:W3CDTF">2021-09-13T12:49:09Z</dcterms:modified>
  <cp:revision>33</cp:revision>
  <dc:subject/>
  <dc:title>Слайд 1</dc:title>
</cp:coreProperties>
</file>