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0B5-DC8E-4CE2-8C91-0CA46B92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481-DAED-408C-A55E-7F172862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E38-2A60-4C20-82CE-710B23B8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4D9-0A99-4600-8478-BC4CC68D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114-C2F2-40BF-A64B-D1BBEC44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6CD-D586-4A7F-A301-185FE539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598-870B-4B8F-AC4B-95E3B65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8C4-20C3-4BE4-834D-49DAB721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2F7-5DC8-4DFE-8264-700F134A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583-A775-4577-B63E-B76CFE9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6EA-D262-4418-9FE6-664A7A7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C82-B4BA-42F6-B074-44967816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41BA-3A12-4B39-B5D4-84B5088AB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54936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фундаменталь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263700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0766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427640" y="115920"/>
            <a:ext cx="446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ложение 5 к приказу ДонНУ от_________2021 г. №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247824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 Box 256"/>
          <p:cNvSpPr/>
          <p:nvPr/>
        </p:nvSpPr>
        <p:spPr>
          <a:xfrm>
            <a:off x="184320" y="149688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7"/>
          <p:cNvSpPr/>
          <p:nvPr/>
        </p:nvSpPr>
        <p:spPr>
          <a:xfrm>
            <a:off x="3401640" y="2602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56"/>
          <p:cNvSpPr/>
          <p:nvPr/>
        </p:nvSpPr>
        <p:spPr>
          <a:xfrm>
            <a:off x="193680" y="333360"/>
            <a:ext cx="87091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овые знания, законы, концепции, гипотезы, теории, методы, выводы, технологии, нормативно-техническая документация, правовые документы, прогнозы развития науки и техники, открытие путей применения новых явлений и закономерностей, учебные программы, методические рекомендации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87280" y="-2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(2017-2022 г.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836640"/>
          <a:ext cx="8856720" cy="5897520"/>
        </p:xfrm>
        <a:graphic>
          <a:graphicData uri="http://schemas.openxmlformats.org/drawingml/2006/table">
            <a:tbl>
              <a:tblPr/>
              <a:tblGrid>
                <a:gridCol w="6480360"/>
                <a:gridCol w="1224000"/>
                <a:gridCol w="115236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7-2021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2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Словари, справочник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 Получено/будет подано заявок на получение авторских свидетельст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7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готовка научных кадро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Запланировано к защите за период выполнения проекта кандидатских диссерта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1484280"/>
          <a:ext cx="8964720" cy="48736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е заказчики/потребители получаем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на которых планируется провести апробацию результа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заключения лицензионных договоров на оказание услуг научно-техни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 и ориентировочные суммы привлеченных внебюджетных сред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прибора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cp:lastPrinted>2020-10-05T11:06:08Z</cp:lastPrinted>
  <dcterms:modified xsi:type="dcterms:W3CDTF">2021-09-13T12:49:09Z</dcterms:modified>
  <cp:revision>33</cp:revision>
  <dc:subject/>
  <dc:title>Слайд 1</dc:title>
</cp:coreProperties>
</file>