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CFE-A389-46C6-9A0B-F212BFB2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750-ADA9-459D-8E4A-8FB8D071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531-E902-4734-B2C2-CF2F22AB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0DC-AC29-4F06-B05F-59EDE2FB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F91-BA6B-4B52-B9CA-72C8D5C6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16F-6F53-4B12-9AA5-121FD5A3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5C8-59BE-4264-A6E0-15B0473D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504-3212-4AA7-B5AC-89F670AE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4DC-1707-4FA0-BDC6-14A04EBF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AE3-5DBB-46AC-A397-5297320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09C-0A4D-453B-B44E-876D888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0C7-2C09-4838-BC27-9FB3170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68D9-D3FA-4B19-BB2E-F9D6AE330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54936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427640" y="115920"/>
            <a:ext cx="446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ложение 5 к приказу ДонНУ от_________2021 г. №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56"/>
          <p:cNvSpPr/>
          <p:nvPr/>
        </p:nvSpPr>
        <p:spPr>
          <a:xfrm>
            <a:off x="193680" y="333360"/>
            <a:ext cx="87091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овые знания, законы, концепции, гипотезы, теории, методы, выводы, технологии, нормативно-техническая документация, правовые документы, прогнозы развития науки и техники, открытие путей применения новых явлений и закономерностей, учебные программы, методические рекомендаци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2 г.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836640"/>
          <a:ext cx="8856720" cy="5897520"/>
        </p:xfrm>
        <a:graphic>
          <a:graphicData uri="http://schemas.openxmlformats.org/drawingml/2006/table">
            <a:tbl>
              <a:tblPr/>
              <a:tblGrid>
                <a:gridCol w="6480360"/>
                <a:gridCol w="1224000"/>
                <a:gridCol w="115236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7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cp:lastPrinted>2020-10-05T11:06:08Z</cp:lastPrinted>
  <dcterms:modified xsi:type="dcterms:W3CDTF">2021-09-13T12:49:09Z</dcterms:modified>
  <cp:revision>33</cp:revision>
  <dc:subject/>
  <dc:title>Слайд 1</dc:title>
</cp:coreProperties>
</file>