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94C-2903-4E10-BCEF-6C7109F5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E9F-55DE-4B50-B5FE-9C11903D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220-1C37-4140-99E1-38628D15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FE7-A044-498C-8174-D28F9444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095-5C5B-4912-A226-E879FD05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E4B-067A-4B44-A2DB-CF040FBC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AA5-8308-42E0-ADC2-6C31FA2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F02-D231-4BD2-B467-B5B424E1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A40-1272-408D-A6CA-312BCFBA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7C6-ACA0-42CB-9F79-E1F7F24B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C4B-096F-4BF5-A9BE-796C0360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5AB-87C6-4E57-8374-9E798B1D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232F-8C4A-40DC-9D8A-3C251872E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50920" y="227016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50920" y="39830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250920" y="11592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приклад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20356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7"/>
          <p:cNvSpPr/>
          <p:nvPr/>
        </p:nvSpPr>
        <p:spPr>
          <a:xfrm>
            <a:off x="3544560" y="40464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6"/>
          <p:cNvSpPr/>
          <p:nvPr/>
        </p:nvSpPr>
        <p:spPr>
          <a:xfrm>
            <a:off x="184320" y="155736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84320" y="333360"/>
            <a:ext cx="8708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(вещества и материалы, техника, технологии, методики, сорта растений, породы животных, нормативы и стандарты, техническая документация, программно-технологическая документация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1280" y="1047600"/>
          <a:ext cx="8964720" cy="5334120"/>
        </p:xfrm>
        <a:graphic>
          <a:graphicData uri="http://schemas.openxmlformats.org/drawingml/2006/table">
            <a:tbl>
              <a:tblPr/>
              <a:tblGrid>
                <a:gridCol w="6099480"/>
                <a:gridCol w="1606320"/>
                <a:gridCol w="1258920"/>
              </a:tblGrid>
              <a:tr h="4590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7-2021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3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ловари, справоч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7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научных кадр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планировано к защите за период выполнения проекта кандидатских 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"/>
          <p:cNvSpPr/>
          <p:nvPr/>
        </p:nvSpPr>
        <p:spPr>
          <a:xfrm>
            <a:off x="539640" y="507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(2017-2021 г.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830160"/>
          <a:ext cx="8964720" cy="4891320"/>
        </p:xfrm>
        <a:graphic>
          <a:graphicData uri="http://schemas.openxmlformats.org/drawingml/2006/table">
            <a:tbl>
              <a:tblPr/>
              <a:tblGrid>
                <a:gridCol w="6099120"/>
                <a:gridCol w="1606680"/>
                <a:gridCol w="1258920"/>
              </a:tblGrid>
              <a:tr h="4572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7-2021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хранные документы на объекты права интеллектуальной собственности, созданные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о 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хранных документов на объекты права интеллектуальной собственности, созданной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удет получено 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будет подано заявок на получение 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ъем средств, полученных от внедрения результатов предыдущих НИР, тыс. грн.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й объем средств от внедрения результатов НИР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ффективность использования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сумма доходов от договоров/сумма бюджетного финансир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ичество договоров, заключенных по результатам выполнения предыдущих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 догов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"/>
          <p:cNvSpPr/>
          <p:nvPr/>
        </p:nvSpPr>
        <p:spPr>
          <a:xfrm>
            <a:off x="1187280" y="115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(2017-2021 годы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8000" y="1341360"/>
          <a:ext cx="8964720" cy="49402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 результатов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и учреждения, с которыми будут заключены договора для реализации технологий и разработок, созданных в результате выполнения прикладной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очная сумма (тыс.руб.) лицензионных договоров или договоров на оказание услуг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приборов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dcterms:modified xsi:type="dcterms:W3CDTF">2021-09-13T12:51:42Z</dcterms:modified>
  <cp:revision>28</cp:revision>
  <dc:subject/>
  <dc:title>Слайд 1</dc:title>
</cp:coreProperties>
</file>