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13C-8CB1-49A0-924E-A5145AB9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046-2D24-4226-BA33-458B8511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863-E4D7-4D08-BD5E-AF6C39CD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6F5-5D36-4A80-AC88-2A7AB834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78E-10F0-4F61-879A-05E8FAA4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B56-18FB-4A16-B88B-9E344FBD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79B-7146-4FC9-A1C5-64BAB9BA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FEC-4545-4A40-B5A3-F4C633C1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276-BD88-4852-BC9C-71062F38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A47-24DC-4177-B904-CDBBE6A4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052-D2A5-4AA9-ABE3-EC29AFD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260-EF58-429C-9F84-12E7EBD8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082-CE5A-4B2F-AA93-32B515DED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0920" y="227016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0920" y="39830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50920" y="11592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приклад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20356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7"/>
          <p:cNvSpPr/>
          <p:nvPr/>
        </p:nvSpPr>
        <p:spPr>
          <a:xfrm>
            <a:off x="3544560" y="404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6"/>
          <p:cNvSpPr/>
          <p:nvPr/>
        </p:nvSpPr>
        <p:spPr>
          <a:xfrm>
            <a:off x="184320" y="155736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84320" y="333360"/>
            <a:ext cx="870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(вещества и материалы, техника, технологии, методики, сорта растений, породы животных, нормативы и стандарты, техническая документация, программно-технологическая документация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280" y="1047600"/>
          <a:ext cx="8964720" cy="5334120"/>
        </p:xfrm>
        <a:graphic>
          <a:graphicData uri="http://schemas.openxmlformats.org/drawingml/2006/table">
            <a:tbl>
              <a:tblPr/>
              <a:tblGrid>
                <a:gridCol w="6099480"/>
                <a:gridCol w="1606320"/>
                <a:gridCol w="1258920"/>
              </a:tblGrid>
              <a:tr h="4590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7-2021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ловари, справоч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7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научных кадр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планировано к защите за период выполнения проекта кандидатских 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"/>
          <p:cNvSpPr/>
          <p:nvPr/>
        </p:nvSpPr>
        <p:spPr>
          <a:xfrm>
            <a:off x="539640" y="507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(2017-2021 г.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830160"/>
          <a:ext cx="8964720" cy="4891320"/>
        </p:xfrm>
        <a:graphic>
          <a:graphicData uri="http://schemas.openxmlformats.org/drawingml/2006/table">
            <a:tbl>
              <a:tblPr/>
              <a:tblGrid>
                <a:gridCol w="6099120"/>
                <a:gridCol w="1606680"/>
                <a:gridCol w="1258920"/>
              </a:tblGrid>
              <a:tr h="4572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7-2021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хранные документы на объекты права интеллектуальной собственности, созданные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 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хранных документов на объекты права интеллектуальной собственности, созданной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удет получено 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удет подано заявок на получение 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ъем средств, полученных от внедрения результатов предыдущих НИР, тыс. грн.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объем средств от внедрения результатов НИР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ффективность использовани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сумма доходов от договоров/сумма бюджетного финансир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ичество договоров, заключенных по результатам выполнения предыдущих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 до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"/>
          <p:cNvSpPr/>
          <p:nvPr/>
        </p:nvSpPr>
        <p:spPr>
          <a:xfrm>
            <a:off x="1187280" y="115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(2017-2021 годы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341360"/>
          <a:ext cx="8964720" cy="49402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 результатов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и учреждения, с которыми будут заключены договора для реализации технологий и разработок, созданных в результате выполнения прикладной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сумма (тыс.руб.) лицензионных договоров или договоров на оказание услу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приборов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dcterms:modified xsi:type="dcterms:W3CDTF">2021-09-13T12:51:42Z</dcterms:modified>
  <cp:revision>28</cp:revision>
  <dc:subject/>
  <dc:title>Слайд 1</dc:title>
</cp:coreProperties>
</file>