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C59-238A-457A-91A2-89ADF741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177-D013-4B34-8712-93DF1426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2F8-3D4A-4010-8E8F-8D6F0BCC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C38-20DB-4CC9-8B6B-8F57516E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4EC-4B8A-429F-ADA3-DAA6CE05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0EE-EC2F-4E44-BE67-024ED187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3AF-2FB1-49FB-9F05-4B0BC229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8E3-3CD0-4442-8C08-EA724D7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B55-919A-490E-A02B-350000B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5CF-31B4-4A39-9499-357B9CE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579-3CD1-42DD-8D7C-2F2D8E9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5A6-F66D-43AA-828F-35B80D6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5BF7-EF7E-49AB-A3C8-797E94389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539640" y="507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1 г.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115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1 годы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21-09-13T12:51:42Z</dcterms:modified>
  <cp:revision>28</cp:revision>
  <dc:subject/>
  <dc:title>Слайд 1</dc:title>
</cp:coreProperties>
</file>